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647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944C-FC79-42F5-B90E-78D920AD3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A94A-555C-4F85-B4EE-393C8C81ED2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endinizi tanıtın. Forum sürecine ilişkin kısa bilgi ver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9DDB-AEF1-4F0C-94B2-52388A6CE2D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kinlik 1 Adım 1’deki etkinliği yaptırın. Katılımcıların bazılarına (istekliler kadar isteksizlere de söz hakkı verin ve deneyimlerini paylaşmalarını isteyi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nra Adım 2’deki etkinlikleri yapmalarını isteyin. Okul Kültüründe Değişim sunusunun CD’nin Forum Araçları seçeneği altında yer aldığını vurgu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365D-7EF5-4D6C-8BC5-DEDB284D51B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blonun anlaşılmayan yönlerini açık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48EE-6ED2-4E72-AECD-DED260A0381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lar üzerinde durduktan sonra katılımcıların sonraki slaytlarda yer alan soruları cevaplamalarını sağlayın. Sınıf için anket niteliğinde yapabilir ya da ellerine dağıtarak doldurmalarını istey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DBC9-2659-44B1-B54B-FFAF57C7D9B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B9D5-2B33-4CEC-BEFC-F9D88EDC5AA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3B7E-5955-45C7-9A8C-364A2982800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FF8F-8D01-4816-9037-E3842583CAD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424B-AE6C-48D5-A754-938D5FC1651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1456-F0AC-4D46-B62F-7E5A47C16C1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9C69-5811-4CEB-A552-2DA4186EE08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091B-7788-46F6-A564-11E8CA3F1F8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şlangıç modülündeki ilk etkinlikte yer alan açıklamaları okuyarak soruların cevaplarını aramalarını istey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 kaç katılımcıya söz hakkı verdikten sonra bir sonraki slayta geç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B137-8346-4018-A1A1-1FD592FDB31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883B-326B-4713-B72A-B03C69C0153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A213-FACC-42A2-9377-0DF22CEFDCA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derlerin/Yöneticilerin teknoloji kullanımı konusunda kendilerini rahat hissetmeleri ve günlük işlerinde kullanmaları öğretmenler üzerinde nasıl bir etki oluşturu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tür bir soru sorarak katılımcıların fikirlerini al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2E25-0DCD-455E-9F22-B9C271150F7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Öğrenme-öğretme süreçlerinde teknolojiden daha fazla yararlanmayı sağlamak, hangi yönetici işlevlerinden/konulardan önce hangilerinden sonra konumlandırılmalıdır? Öncelikler ne olmalıdır? Teknolojinin yaygınlaştırılması bu öncelik listesinde nerede yer almalıdı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Katılımcıların bu sorular ailişkin fikirlerini al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CB66-AE63-425F-B25D-F288E7DA9D7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r yönetici A’dan B’ye, B’den C’ye ve C’den D’ye nasıl ilerleyebilir? Neler yapması gereki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atılımcılara söz hakkı ver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A8A-CEBD-43E0-BD9A-32E024E9E3C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Katılımcıların okumadan önce yukarıdaki soruları tartışmalarını sağlayınız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Sonra okumalarını sağlayını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Değerlendirme sonuçları konusunda görüşlerini alını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41B9-5204-4814-BBF9-156F3822CE4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9A06-47DE-41E2-946A-5C24678DA17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0C49-AA84-4199-A28E-A66411B848C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CD’yi incelemelerine fırsat verin. CD de yer almasını düşündükleri ya da meslektaşlarıyla paylaşmak istedikleri başka kaynaklar varsa. Size ulaştırmalarını sağlay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4066-467C-4CAD-9A29-8C71E0EFFE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re’s the Genel Bakış for our exploration time. We’ve supplied you with all the Web addresses we use in the forum, plus a lot of other resources, on a CD. Locate your Resource CD in the back of your manual, and let’s follow the directions for this Etkinlik, beginning on Modül 2.05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participants insert the CD and direct them to work from 2.05 in their manual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ization sugges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length of this Etkinlik depends on the agenda you have selected for the forum. If you are using a longer agenda, extend the length of this exploration time so participants can explore all that is available at the Intel® Education Web site, as well as other resources you have selected that showcase best practices. If you are working with a shorter agenda (i.e. 4 hours), follow the recommended agenda for exploration time.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o to the next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4B4A-D9C5-4EEC-A0D4-2859113EB3D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okumasına izin verin. Burada FORUM kavramı, paylaşımın önemi ve uygulama topluluklarının önemini vurgulayı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DF07-50EC-4564-BECB-1FDE1BDA167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’ll come back to these Sorus after you do some looking around.  You’ll have a chance to work with a partner, but know that we’re aiming at the last Soru in particular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 Provide time for exploration and additional time for participants to take a break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After the exploration and break time, call the group back together (from their individual work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. Ask participants to consider these Sorus and discuss with a partner (or set up small groups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. After the pair or small group discussions, conduct a large group discussion. Remember to focus particularly on the third Sor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ization sugges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e length of this discussion depends on the agenda you have selected for the forum. If you are using a longer agenda, extend the length of this discussion time so participants can discuss all Sorus together and have a large group discussion. If you are working with a shorter agenda (i.e. 4 hours), keep this discussion time shorter (around 15-20 minutes).]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19ED-DF55-496E-B123-C5F30E012F1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A701-9D1D-44D6-BA62-D0B12A6AA00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etkinlikte Web 2.0 ve Web 1.0 arasındaki farka odaklanılmalı ve kolay kullanım sağladığı üzerinde durulmalıdır. Bu arada Web 3.0 ve Web 4.0 üzerinde çalışıldığı ifade edilmelidi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C70A-2B82-47C5-8D96-F28E14C9670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etkinlikte Web 2.0 ve Web 1.0 arasındaki farka odaklanılmalı ve kolay kullanım sağladığı üzerinde durulmalıdır. Bu arada Web 3.0 ve Web 4.0 üzerinde çalışıldığı ifade edilmelidi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2409-158B-43F8-8A79-88DB33CE311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AD8B-B096-49E4-BAD2-E2D046C5481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B3BF-157D-405C-9071-52DD67F2628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rada Görsel sıralama aracının nasıl çalıştığını çevrimiçi ortamda göster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D772-EE84-410B-A5F9-500C58A9D5A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akım halinede çalışmalarını sağlayı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F8FA-51DF-45D0-BCD3-A7E2D5196DE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Eğitici lider sunu öncesinde buraya adınızı yazmalı, takım kodları ve şifreleri oluşturmalısınız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0585-83E8-4976-BC0D-E9CA606C02F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Farklı grupların çalışmaları karşılaştıklarında neler bulduklarını aktarmalarına izin ver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Takımların sıralamalarda ortaya çıkan farklılıkların nedenlerini tartışmalarına izin verin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Verdana"/>
              </a:rPr>
              <a:t>Son olarak görsel sıralama aracına ilişkin katılımcıların görüşlerini alın. Yararlı buluyorlar mı? Yönetim ya da öğretim süreçlerinde  kullanmak isterler mi? Kullanabilirler mi? Ne tür etkinlikler yaptırabilirler?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88DE-A857-4999-936C-39E6581C69B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birer kağıt alarak beklentilerini yazmalarını isteyin. Sonra bunları toplayarak biraraya getirin. Bu listeyi Forum sonunda kullanmak üzere saklayın. 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94C5-6CDA-4FE5-A138-B922206D200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üyük grupla bu sıralamayı tartış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223D-BDA1-46D2-B83D-A0EBE5C3767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Gerekirse web sitelerini incelemelerini sağlay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E1FB-1EE8-4ABA-89AD-81AB582332A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Altı alanda sınıflandırıldığını vurgulayın. CD’den Görsel Sırlamayı açarak katılımcıların ayrıntılı incelemelerini sağlayın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C0B3-15E0-4131-AF38-2E06BB5152E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789A-F0A3-4C0D-9F93-BBE3FD5020E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tr-TR" sz="1200" spc="-1" strike="noStrike">
                <a:solidFill>
                  <a:srgbClr val="000000"/>
                </a:solidFill>
                <a:latin typeface="Verdana"/>
              </a:rPr>
              <a:t>atılımcılara sorarak geribildirim alın. Yanlış anlaşılmaları belirleyebilir ve gidermek için zaman ayır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158E-A098-430B-8674-3E3D3F4FBA8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1A3E-B19E-478C-AD62-BE5B0F14A51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now turn to your opportunity to start building your own action plan. These are the Sorus that drive Modül 4 and are on the Modül 4 Genel Bakış page. Note the objectives there which interact with the Sor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o to the next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BD5A-998D-4BEE-A57D-AC91ECE54DF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C9A4-C06D-4437-93E3-B3AF189EC63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Birlikte inceleyin. İsterlerse eklerdeki örnekleri ayrıntılı incelemelerini isteyiniz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A242-5F8C-405B-ADF3-9C0C77AD3B2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DC90-768A-4813-A25D-39DFC326846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okumasına izin verin. Siz okumadan özetlemeye çalışın. Eylem Planlarını bitiremeyebileceklerini ancak başlamalarının önemli olduğunu vurgu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 slaytta ayrıca, Türkiye’deki değerlendirme çalışmalarında özellikle Okul Müdürü ve İl Yöneticilerinin teknolojiye olan tanışıklık ve ilgilerinin öğretmen eğitimleri üzerindeki etkisinden sözede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C568-1C15-4092-81AB-53109C396B5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Katılımcıların eylem planlarını bir başka katılımcıyla eşleşerek paylaşmalarını ve yukarıdaki soruların cevaplarını birlikte araştırmalarını sağ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azı eşleş paylaş gruplarına söz vererek tüm grupla soruların cevaplarını paylaşmalarını sağlay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9A78-5348-4DA2-B1B0-A094B82AED2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CA5B-5DF4-4D57-B5C7-1ACC72FB65E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ADA3-710D-4DB4-81A0-DC89DA2BA5F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Üm katılımcıların çevrimiçi anketi doldurmasını sağlayın. Bu anketin yalnızca Forumu değerlendirmek için olduğunu daha sonra etki analizi yapılacağını belirti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Bu arada forumun ilk etkinliklerinde katılımcıların belirttikleri beklentilere geri dönerek ne ölçüde karşılandığını tartış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B531-38D1-4D8D-98E2-A5B9E242578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FB51-D772-47D2-A341-7EBE02156BE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B38F-39CA-40B8-B77D-F066417D79A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tılımcıların kendilerini tanıtmalarına imkan verin ve notlar alı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EF47-6F16-414C-BC19-5E743F54BB5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Bu slaytta standart alanlarını daha sonra ayrıntılı inceleyeceğinizi ve planların kısa, orta ve uzun vadeli olması gerektiğini belirtin. Kitaptaki açıklamaları açımlamaya çalışı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AC71-E800-402E-AAEF-DF7263C9C66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Günlük Forum planını bu arada aktartabilirsiniz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1CC5-1B41-45E1-AEAC-BC118C8DE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6B1E-F042-47C4-B252-9BCE70149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CA5B-B372-48BA-9D0D-5338DA121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59A7-5C46-493B-A833-0E217168C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CB6E-1490-4EA0-AE48-76A30B6FB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3C0A-5A5A-401A-966C-806F0DA07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ABD8-E4C6-40B5-93D3-3EE2DDC05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B417-53E1-46ED-94BE-86E7BB65D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3274-9D1E-4F17-A076-F8C959C3A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DBF3-09AF-49D8-8071-BE5895D2F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FFD88-F1A6-43E1-BBD9-3896FE932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0630-0AD8-4F05-B746-430FC243A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9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59FB-8B9A-4E54-BDBD-673AD7CE1129}" type="slidenum">
              <a:rPr b="1" lang="en-US" sz="800" spc="-1" strike="noStrike">
                <a:solidFill>
                  <a:srgbClr val="00009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28"/>
          <p:cNvSpPr/>
          <p:nvPr/>
        </p:nvSpPr>
        <p:spPr>
          <a:xfrm>
            <a:off x="1079640" y="6108840"/>
            <a:ext cx="471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8" descr="intel.tiff"/>
          <p:cNvPicPr/>
          <p:nvPr/>
        </p:nvPicPr>
        <p:blipFill>
          <a:blip r:embed="rId2"/>
          <a:stretch/>
        </p:blipFill>
        <p:spPr>
          <a:xfrm>
            <a:off x="8102520" y="6076800"/>
            <a:ext cx="1041480" cy="762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MEB.tiff"/>
          <p:cNvPicPr/>
          <p:nvPr/>
        </p:nvPicPr>
        <p:blipFill>
          <a:blip r:embed="rId3"/>
          <a:stretch/>
        </p:blipFill>
        <p:spPr>
          <a:xfrm>
            <a:off x="7311960" y="6058080"/>
            <a:ext cx="78732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3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5e647"/>
                </a:solidFill>
                <a:latin typeface="Verdana"/>
              </a:rPr>
              <a:t>© 2006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5e647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Picture 11" descr="Kitap Banner.jpg"/>
          <p:cNvPicPr/>
          <p:nvPr/>
        </p:nvPicPr>
        <p:blipFill>
          <a:blip r:embed="rId2"/>
          <a:stretch/>
        </p:blipFill>
        <p:spPr>
          <a:xfrm>
            <a:off x="519120" y="1992240"/>
            <a:ext cx="8317080" cy="268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5e647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5e647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5e647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5e647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5e64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educate.intel.com/tr/thinkingtools/visualrank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hmh-degerlendirme.com/intel/foru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262699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 </a:t>
            </a:r>
            <a:r>
              <a:rPr b="1" lang="tr-TR" sz="3600" spc="-1" strike="noStrike">
                <a:solidFill>
                  <a:srgbClr val="262699"/>
                </a:solidFill>
                <a:latin typeface="Verdana"/>
              </a:rPr>
              <a:t>Öğretmen</a:t>
            </a:r>
            <a:r>
              <a:rPr b="1" lang="en-US" sz="3600" spc="-1" strike="noStrike">
                <a:solidFill>
                  <a:srgbClr val="262699"/>
                </a:solidFill>
                <a:latin typeface="Verdana"/>
              </a:rPr>
              <a:t> Program</a:t>
            </a:r>
            <a:r>
              <a:rPr b="1" lang="tr-TR" sz="3600" spc="-1" strike="noStrike">
                <a:solidFill>
                  <a:srgbClr val="262699"/>
                </a:solidFill>
                <a:latin typeface="Verdana"/>
              </a:rPr>
              <a:t>ı</a:t>
            </a:r>
            <a:endParaRPr b="1" lang="en-US" sz="3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5601960"/>
            <a:ext cx="87660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262699"/>
                </a:solidFill>
                <a:latin typeface="Verdana"/>
              </a:rPr>
              <a:t>Liderlik</a:t>
            </a:r>
            <a:r>
              <a:rPr b="0" lang="en-US" sz="3600" spc="-1" strike="noStrike">
                <a:solidFill>
                  <a:srgbClr val="262699"/>
                </a:solidFill>
                <a:latin typeface="Verdana"/>
              </a:rPr>
              <a:t> Forum</a:t>
            </a:r>
            <a:r>
              <a:rPr b="0" lang="tr-TR" sz="3600" spc="-1" strike="noStrike">
                <a:solidFill>
                  <a:srgbClr val="262699"/>
                </a:solidFill>
                <a:latin typeface="Verdana"/>
              </a:rPr>
              <a:t>u</a:t>
            </a:r>
            <a:endParaRPr b="0" lang="en-US" sz="3600" spc="-1" strike="noStrike">
              <a:solidFill>
                <a:srgbClr val="f5e647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6465960"/>
            <a:ext cx="914400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intel.tiff"/>
          <p:cNvPicPr/>
          <p:nvPr/>
        </p:nvPicPr>
        <p:blipFill>
          <a:blip r:embed="rId1"/>
          <a:stretch/>
        </p:blipFill>
        <p:spPr>
          <a:xfrm>
            <a:off x="7574040" y="635040"/>
            <a:ext cx="1041480" cy="76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MEB.tiff"/>
          <p:cNvPicPr/>
          <p:nvPr/>
        </p:nvPicPr>
        <p:blipFill>
          <a:blip r:embed="rId2"/>
          <a:stretch/>
        </p:blipFill>
        <p:spPr>
          <a:xfrm>
            <a:off x="382680" y="587520"/>
            <a:ext cx="7873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228E-C3BC-45E4-AD7B-74128012CAA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1: 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Paradigma Değişimini Fark 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adigma, herhangi bir alanda yerleşik yazılı ve yazılı olmayan tüm kurallar ve uygulama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ünlük yaşamda paradigma değişi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ğitimde paradigma değişim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BE7C-018A-467D-BB9C-A4BFB1CA35E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2: 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Değişimi Yön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book31.tiff"/>
          <p:cNvPicPr/>
          <p:nvPr/>
        </p:nvPicPr>
        <p:blipFill>
          <a:blip r:embed="rId1"/>
          <a:stretch/>
        </p:blipFill>
        <p:spPr>
          <a:xfrm>
            <a:off x="461880" y="1208160"/>
            <a:ext cx="5759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D579-0CF1-4B3F-BB52-5B8E2D28DAC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Varsayımla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menlerin etkililiğini destekleyen liderl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…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a6cae1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Teknolojin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nemli olduğuna ve öğrenme ve öğretmede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fark yarattığın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nı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ve öğretmenleri destekleme konularınd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isteklidi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unun öğrenciler için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yapılacak doğru şey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lduğuna inan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B04A-7661-471F-AFF2-A633A951F29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Şimdiki görev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dü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dür Yardımcı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illi Eğitim Müdür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illi Eğitim Müdür Yardımcı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üfredat Yönetici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Koordinatör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iğ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1478-7A0C-4CEE-B442-AB0E31B6A2E3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2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Liderlikteki deneyimim (kaç yıllık lider olduğum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-5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-10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1-15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ıl aras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6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a da daha fazla yı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D227-5FEE-4955-A81A-1B2B507460A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3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Hangisi görev yaptığım kademeyi en iyi açık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öğretim 1.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köğretim 2.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rtaöğret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l Müdürlüğ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den fazla kade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27EB-A65F-4B6F-9048-4B608158638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4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Vazgeçemeyeceğim takvim: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ğıtt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le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tronikt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8C48-AED1-479A-ABA1-7012FDCB2848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5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tronik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iletiş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(e-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posta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)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rafiği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az pos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nderim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lım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ftad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 e-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osta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el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d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 en az yarım saat ayırırım, her hafta iki yüzden fazla e-post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-pos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yatımın büyük bölümünü kapsıy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7DE6-BB3B-4FC9-B84D-DE2FF5AE1FE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6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lgisayarda kelime işlemci programını kullanma amac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içbirşey iç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kaba taslak yazmak için, ama her hafta değil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fta boyunca düzenli olarak epey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ot almak, taslak hazırlamak, takvim oluşturmak ve gündem belirlemek vb. için 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8FD1-3C74-4A56-A38B-B0272CD70A5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7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lektronik sunular ile ilişki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alnızca izle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tane yapmayı denedi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0’dan 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0’dan fazlası için yardım ettim ya da yardım ald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nları kullanmadan önce nasıl çalışıyormuşum hatırlamıyorum b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CD0B-A9FE-4C4E-BDE6-DC27E5730C9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Forumu Tanıma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mel So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ğitim liderleri, öğrencilerin başarılarını arttırmak amacıyla, öğretmenlerin daha etkili öğretim süreçleri yürütmelerine nasıl yardımcı olabilirle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Soru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 Programı Liderlik Forumu’nun temel amacı nedi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Forum sonunda neler kazanmış olacaksınız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C7FD-24FC-419E-BD9C-772B7635991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8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r avuç içi bilgisayarı/aracı kullanma sıklığ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di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 sı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an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679A-A337-4AFA-960E-FA8F4456753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9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ir Web 2.0 aracını (Web Günlüğü, Wiki, Facebook vb.)  kullanma sıklığı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dire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 sı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gü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er anı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0F42-6C63-4510-A54F-4A4A48AA7CA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0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eknoloji kullanımında kişisel üretkenliğimi ve etkililiğimi geliştirmek için yeterlik düzeyim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si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ğıdım kalemim nered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az yeter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yi severim ama öğrenmeye zamanım yo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l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bana yardımcı olur ve teknolojileri, nasıl kullanabileceğimi tanımaktan memnunluk duyarım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terli öte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eni çıkacak teknoloji ürünlerini beklerken sabırsızlanıyorum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BF4F-1C6A-4599-86FF-986B1CC937A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1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im süreçleri için sınıfta teknoloji kullanımıyla ilgili bilgi düzeyim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asıl bir şey olduğundan pek emin değil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rt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anırım gördüğümde ne olduğunu anlayabiliri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y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e aradığımı iyi bili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Uzman düzey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ime öğretim süreçlerinde teknolojiyi kullanma konusunda eğitim verebiliri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D239-D582-4366-AC3B-954EFCE779C9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ru 12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Öğretmenlerime sınıfta günlük derslerinde teknoloji kullanımlarına yardımcı olmadaki yeterlik düzeyim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Çok düşü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nıflarda teknolojiyle ilgili olarak nelerin işe yarayacağından pek emin değili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üzeliyo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kaç şeyi biliyorum ve birşeyler öğreniyoru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endinden em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ile öğretim konusunda iyi durumdayım ama halihazırda buna ilişkin bir planım yo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derek gelişmek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 planım var ve çalışarak plan üzerinde ilerliyoru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69E9-62BA-4516-8C85-BD9259A82BF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Öğretmen Programını Anla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Neden Intel eğitime yatırım yapmaktadır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8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 Ö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ğ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retmen Programını nasıl buluyorsunuz? Nede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894B-C4F1-4109-AB18-1BD848611D9F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840" y="29196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Öğretmen Programını Anla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2000 yılında piyasaya sürülmüş dünya çapında yaygın bir programdı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35 ülkede 3 milyondan fazla öğretmen bu programla eğitimden geçmişti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rogram, öğrenci başarısını desteklemek için öğretmen etkinliğini geliştirme ve bu süreçte teknoloji araçlarının kullanımı konularının ötesine geç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A0AC-FCC3-41B1-8887-66E4EBA5E7D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1 | Etkinli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3</a:t>
            </a:r>
            <a:br>
              <a:rPr sz="2600"/>
            </a:b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Intel</a:t>
            </a:r>
            <a:r>
              <a:rPr b="1" lang="en-US" sz="2200" spc="-1" strike="noStrike" baseline="30000">
                <a:solidFill>
                  <a:srgbClr val="a6cae1"/>
                </a:solidFill>
                <a:latin typeface="Verdana"/>
              </a:rPr>
              <a:t>®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Öğretmen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 Program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ı için Temel Değerlendirme Bulguları </a:t>
            </a: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**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Yönetsel destek önemlidir ama çeşitlilik gösteri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estek çoğunlukla şunlarla sınırlıdı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knik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kaynakla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Teknik destek personel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0747-5E1F-4682-87AF-99C91249210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ül 1 | Etkinlik 4</a:t>
            </a:r>
            <a:br>
              <a:rPr sz="2400"/>
            </a:br>
            <a:r>
              <a:rPr b="1" lang="tr-TR" sz="2400" spc="-1" strike="noStrike">
                <a:solidFill>
                  <a:srgbClr val="a6cae1"/>
                </a:solidFill>
                <a:latin typeface="Verdana"/>
              </a:rPr>
              <a:t>Kaynakları Gözden Geçirme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D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yi yerleştir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a6cae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Buradan Başlay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 ve sonr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CD’yi Başlat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CD içinde yer alan kaynakları inceleyiniz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l CD için önerebileceğiniz kaynaklar varsa bunları not alıp Eğitici Liderinize ulaştır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121F-5E82-4E89-AD92-65803E9CA3E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5760" y="2001960"/>
            <a:ext cx="823752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D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yi yerleştiri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a6cae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Buradan Başlay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 ve sonra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CD’yi Başlat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’a 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ol bölmedeki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Forum 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Araçlarını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ve sonra da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Forum Web Sites</a:t>
            </a:r>
            <a:r>
              <a:rPr b="1" lang="tr-TR" sz="1800" spc="-1" strike="noStrike">
                <a:solidFill>
                  <a:srgbClr val="a6cae1"/>
                </a:solidFill>
                <a:latin typeface="Verdana"/>
              </a:rPr>
              <a:t>ini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ıklayı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Bağlantılar üzerine tıklayarak kaynaklara ulaşı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b siteler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nin içinde dolaşarak ve kitabınızdaki yönergeleri takip ederek kaynakları keşfetmeye çalışı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1 | Etkinlik 5</a:t>
            </a:r>
            <a:br>
              <a:rPr sz="28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Teknoloji Kullanımına Yönelik Web Kaynaklarını Saptamak</a:t>
            </a:r>
            <a:br>
              <a:rPr sz="24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F2EF-CE0F-4659-B9C8-DDBB5E25691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26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®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Öğretmen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Programı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Lider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Forum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u,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teknolojinin öğretim ve yönetim süreçlerinde bir araç olarak etkili kullanımını teşvik etmek, desteklemek ve model olmak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konularında size yardımcı olmak amacıyla oluşturulmuştur.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Temel Amaç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FDDA-5D30-46E2-AAD9-F5DB225DD54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ül 1 | Etkinlik 5</a:t>
            </a:r>
            <a:br>
              <a:rPr sz="2400"/>
            </a:b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Teknoloji Kullanımına Yönelik Web Kaynaklarını Saptamak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2136600"/>
            <a:ext cx="8237520" cy="35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ngi kaynakları yararlı buldunuz? Nede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Hangi ünite planları ilginizi çekti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e teknoloji kullanımı konusunda yardımcı olurken bu kaynaklar nasıl bir yarar sağ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3F61-B31E-455F-A3E4-E4182FCC7B0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Web 2.0 Araçlarını Keşfet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Modül Sorular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teknolojilerini, okulumun ya da ilimin/ilçemin teknoloji planları içine nasıl entegre edebilirim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 ve öğrenciler küresel topluluklarla iletişim kurabilmek, öğrenme- öğretme süreçlerini geliştirebilmek için hangi araçları kullanabilirle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araçları öğretmenlerle, ailelerle, öğrencilerle ve toplum üyeleriyle gerçekleştirilen günlük iletişime nasıl bir katkı sağla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FC4C-3EAD-4960-A3CE-6A7E30DC9E5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2 | Etkinlik 1</a:t>
            </a:r>
            <a:br>
              <a:rPr sz="2800"/>
            </a:br>
            <a:r>
              <a:rPr b="1" lang="en-US" sz="2800" spc="-1" strike="noStrike">
                <a:solidFill>
                  <a:srgbClr val="a6cae1"/>
                </a:solidFill>
                <a:latin typeface="Verdana"/>
              </a:rPr>
              <a:t>Web 2.0 Araçlarını Anlama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da ya da ilinizde/ilçenizde Web 2.0 araçlarını kullanıyor musunuz? Nası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D4B2-9191-4CC8-89E9-9A2F2AE87B02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ül 2 | Etkinlik 3</a:t>
            </a:r>
            <a:br>
              <a:rPr sz="2800"/>
            </a:br>
            <a:r>
              <a:rPr b="1" lang="en-US" sz="2800" spc="-1" strike="noStrike">
                <a:solidFill>
                  <a:srgbClr val="a6cae1"/>
                </a:solidFill>
                <a:latin typeface="Verdana"/>
              </a:rPr>
              <a:t>Web 2.0 Araçları Belirleme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nternette araştırma yaparak farklı Web 2.0 araçlarını (Yack Pack, You TUBE, Delicious, vb.) ve örneklerini (Blogcu, Wikispaces, Google sites, vb.) katılımcılarla paylaşınız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7585-B12A-4280-A14E-9BEF4818FB7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</a:t>
            </a:r>
            <a:br>
              <a:rPr sz="2200"/>
            </a:b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Liderlik Davranış ve Standartlarını İnceleme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Sınıfta teknoloji kullanımının nasıl olduğunu görmemiz için bir fırsat olarak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 Modül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3 bizi etkili teknoloji kullanımını destekleyecek belirli liderlik davranışlarına götürecekti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D8B6-7024-4A3E-971A-B062A03DDEF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Liderlik Davranış ve Standartlarının İncelenmes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Soruları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Öğretim sürecinde teknoloji kullanımını desteklemek için hangi üç liderlik davranışının temel rol oynadığına inanıyorsunuz?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öneticilere yönelik hangi ulusal standartlar bulunmaktadır ve öğretim sürecinde teknolojinin etkili kullanımını desteklemek için hangi temel koşullar gereklidir?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1B2-DFD8-4A61-8D1B-DA3CEEF7AA7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2 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Görsel Sıralama Aracını Tanımak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br>
              <a:rPr sz="1800"/>
            </a:b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educate.intel.com/tr/thinkingtools/visualrank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ralama için ve listelerdeki maddelerin karşılaştırılması için ücretsiz çevrimiçi kayna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lerin ve öğrencilerin üzerinde çalışabilecekleri serbest bir a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2"/>
          <a:srcRect l="1275" t="25252" r="39370" b="40698"/>
          <a:stretch/>
        </p:blipFill>
        <p:spPr>
          <a:xfrm>
            <a:off x="3532320" y="4349880"/>
            <a:ext cx="545760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AE9C-6DF3-4420-9FB5-04AF86FDB43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1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Görsel Sıralama Aracını Tanımak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tkili teknoloji kullanımını desteklemede liderlik davranışlarını sıralamak ve karşılaştırmak için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nı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ullan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endi önem sıranıza göre davranışları sıralay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7EA8-4DDF-476C-84D9-E73C9DBD4EE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2</a:t>
            </a: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Sisteme Giriş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tme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dı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Eğitici Lider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Öğretmen Adını buraya gir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kım Adı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Kullanıcı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xx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xx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1’den 20’ye kadar size atanmış numaradır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Şif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Kullanıcı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xx</a:t>
            </a: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akım Adıyla ayn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onraki etkinliklerde hatırlayabilmeniz için Sisteme Giriş Bilgileri bölümüne bunları yaz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8E7D-4D8B-49AA-8881-801DC84183DB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</a:t>
            </a:r>
            <a:r>
              <a:rPr b="1" lang="tr-TR" sz="2200" spc="-1" strike="noStrike">
                <a:solidFill>
                  <a:srgbClr val="ffffff"/>
                </a:solidFill>
                <a:latin typeface="Verdana"/>
              </a:rPr>
              <a:t>2</a:t>
            </a:r>
            <a:br>
              <a:rPr sz="22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-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Davranışları Sınıflandırmak ve Sıralamak </a:t>
            </a:r>
            <a:br>
              <a:rPr sz="20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- 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Sıralamaları Karşılaştırmak ve Tartışma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isteme giriş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unu zaten yapmıştını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Sınıflandırın ve sıralay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rşılaştırın ve tartış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dedin ve sistemden çık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3213-8E26-430F-A6A1-49A2A9E5B63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Sizin hedef(ler)iniz nedir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Neler bekliyorsunuz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Kazanımla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20C5-6B60-410C-AFE3-8699A105321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Lider Davranışlarının Sıralanması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n Önemlileri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Vizyonun paylaşım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raştırmayı temel alm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ortamının desteklenmesi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Ib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Nitelikli teknoloji kullanımı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I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Teknoloji kullanımında model olm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II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Kaynakların dağıtımı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IV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Personelin değerlendirilmes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V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şit erişim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V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izlili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üvenli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VIc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CFDA-3D55-4F0E-BDDF-4B628661483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3 | Etkinlik 3</a:t>
            </a:r>
            <a:br>
              <a:rPr sz="2600"/>
            </a:br>
            <a:r>
              <a:rPr b="1" lang="tr-TR" sz="2400" spc="-1" strike="noStrike">
                <a:solidFill>
                  <a:srgbClr val="a6cae1"/>
                </a:solidFill>
                <a:latin typeface="Verdana"/>
              </a:rPr>
              <a:t>Yöneticiler için Standartları Anlamak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STE –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ğitim Teknolojisi Uluslararası Topluluğu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TS –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Ulusal Eğitim Teknolojisi 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andar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tlar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Yöneticiler iç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Öğretmenler iç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ETS “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” 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Öğrenciler için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504D-EDFA-42CF-B785-A2405398F07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3</a:t>
            </a:r>
            <a:br>
              <a:rPr sz="2200"/>
            </a:b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ISTE NETS-A Standar</a:t>
            </a:r>
            <a:r>
              <a:rPr b="1" lang="tr-TR" sz="2000" spc="-1" strike="noStrike">
                <a:solidFill>
                  <a:srgbClr val="a6cae1"/>
                </a:solidFill>
                <a:latin typeface="Verdana"/>
              </a:rPr>
              <a:t>tlarını İncelemek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28480" y="1084320"/>
          <a:ext cx="4043520" cy="4343400"/>
        </p:xfrm>
        <a:graphic>
          <a:graphicData uri="http://schemas.openxmlformats.org/drawingml/2006/table">
            <a:tbl>
              <a:tblPr/>
              <a:tblGrid>
                <a:gridCol w="4043520"/>
              </a:tblGrid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Mesleki Uygulamalar/Üstlenilen Görevler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ik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9048-ADA1-4D2B-904E-620085BFB7B4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3 | Etkinlik 4:</a:t>
            </a:r>
            <a:br>
              <a:rPr sz="2200"/>
            </a:br>
            <a:r>
              <a:rPr b="1" lang="en-US" sz="2000" spc="-1" strike="noStrike">
                <a:solidFill>
                  <a:srgbClr val="7eadd0"/>
                </a:solidFill>
                <a:latin typeface="Verdana"/>
              </a:rPr>
              <a:t>Sıralamayı Tekrar Gözden Geçirmek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elirlediğiniz en önemli lider davranışlarını hatırlayı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TS-A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sel Düzenleyicisinde yer alanlar ile kendi belirlediklerinizi karşılaştır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rubunuzla/arkadaşınızla yaptığınız karşılaştırma sonuçlarınızı paylaşı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CF53-3E10-4ED0-B58C-F42B3D7588D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3 Soru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3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’ün bana en çok yardımcı olduğu konu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Görsel Sıralama Arac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TE NETS-A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sel Düzenleyici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irlikte Konuşma ve Düşün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A3D8-7802-4B62-B9CB-7410D693E1A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ınızı Geliştir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 kullanımının nasıl olduğunu ve etkili teknoloji kullanımını destekleyecek liderlik davranışlarının neler olduğunu gördükten sonr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bu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Modül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kişisel eylem planınızı geliştirirken  öğrendiklerinizi uygulamanıza yardımcı olacaktır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FCFC-B71E-4D48-8FD3-EFE1D2E0947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Kendi Eylem Planınızın Yapılandırılması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Sorus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kulumda ya da ilimde/ilçemde teknolojiden etkili ve verimli biçimde yararlanmak için kişisel olarak neler yapabilirim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ısa, orta ve uzun vadede hangi liderlik davranışlarını sergileyebiliri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E5D7-1B58-40AF-8FF4-907A56FFE420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200"/>
            </a:br>
            <a:r>
              <a:rPr b="1" lang="tr-TR" sz="2200" spc="-1" strike="noStrike">
                <a:solidFill>
                  <a:srgbClr val="a6cae1"/>
                </a:solidFill>
                <a:latin typeface="Verdana"/>
              </a:rPr>
              <a:t>Eylem Planı Şablonunu İncelemek</a:t>
            </a:r>
            <a:br>
              <a:rPr sz="2200"/>
            </a:b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28640" y="1609560"/>
          <a:ext cx="7964640" cy="4268880"/>
        </p:xfrm>
        <a:graphic>
          <a:graphicData uri="http://schemas.openxmlformats.org/drawingml/2006/table">
            <a:tbl>
              <a:tblPr/>
              <a:tblGrid>
                <a:gridCol w="2701800"/>
                <a:gridCol w="1847880"/>
                <a:gridCol w="1663920"/>
                <a:gridCol w="175104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şlem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93"/>
          <p:cNvSpPr/>
          <p:nvPr/>
        </p:nvSpPr>
        <p:spPr>
          <a:xfrm>
            <a:off x="706320" y="492120"/>
            <a:ext cx="82375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işise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lan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KİŞİSEL olarak ne yapabilirim?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D1B3-964C-4E8F-BBD1-7D6F70CEA66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ı Örneğ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43000" y="1217520"/>
          <a:ext cx="8785080" cy="4686480"/>
        </p:xfrm>
        <a:graphic>
          <a:graphicData uri="http://schemas.openxmlformats.org/drawingml/2006/table">
            <a:tbl>
              <a:tblPr/>
              <a:tblGrid>
                <a:gridCol w="2981160"/>
                <a:gridCol w="2038320"/>
                <a:gridCol w="1833480"/>
                <a:gridCol w="193212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488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knoloji Komitesi: ISTE NETS-T ile ilgili öğretmenlere sor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num programının nasıl kullanılacağını öğrenin ve personel toplantılarında kullanı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er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İlköğretim 2. kademe için veri toplayıp analiz edebileceğiniz bir sistem kuru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7E1C-7B25-4280-94A4-3F79B2AF825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1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İşlevsel Plan Oluştur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steklili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maçlılı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erekli kaynak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Bağlantı kurulacak ya da sürece dahil edilecek kişi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Bu konuda düşündüğünüz başka bir şey var mı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FE41-83F5-4EF0-BC0E-2E694AD65CFA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Hedefler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82280" y="1101240"/>
            <a:ext cx="8240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nme-öğretme süreçlerinde teknolojinin etkili ve verimli biçimde kullanımını özendirmede, desteklemede ve bu konuda model ya da örnek olmada eğitim liderlerinin oynadığı önemli rolü inceleme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Mesleki gelişimi, uygulamaları ve öğrencilerin kalıcı öğrenmesini desteklemek için mevcut kaynakları ve teknoloji araçlarını saptamak, bunlara erişmek ve kullan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Öğrencilerin daha kalıcı öğrenmesini sağlamak için teknolojiden yararlanmayı teşvik eden belirli liderlik davranışlarının bir listesini oluştur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STE Temel Koşullarını ve Liderler/Yöneticiler için ISTE Ulusal Eğitim Teknolojisi Standartlarını (NETS-A) inlecemek, analiz etmek ve uygula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da ya da ilinizde/ilçenizde uygulanacak bir Eylem Planı oluşturma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F369-7F34-4830-A452-26758288128C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Eylem Planlarını Paylaş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ylem planınızı uygularken ne tür sorunlarla karşı karşıya kalabilirsini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Önemli role sahip paydaşların sürece aktif katılımını nasıl sağlayacak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ınızı uygulamaya yönelik hangi acil eylemleri gerçekleştirmeye çalışır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kulunuzda ya da ilinizde/ilçenizde teknoloji kullanımını yaygınlaştırmak ve geliştirmek için bireysel olarak olarak siz ne yapacaksınız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DE20-242A-4C35-9B45-DFA61057321E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Soru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 planı için planlama yaparken en fazla aşağıdakilerin hangisinden yardım aldınız?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Şablon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Şablon örnekle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k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r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 fikirler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Ek 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na ilişkin eşleş-paylaş etkinliğ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F4A1-B23D-486A-81CD-B8D4F57F05D1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760" y="31104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3 </a:t>
            </a:r>
            <a:br>
              <a:rPr sz="2600"/>
            </a:br>
            <a:r>
              <a:rPr b="1" lang="en-US" sz="2600" spc="-1" strike="noStrike">
                <a:solidFill>
                  <a:srgbClr val="7eadd0"/>
                </a:solidFill>
                <a:latin typeface="Verdana"/>
              </a:rPr>
              <a:t>Sonraki Aşamaya Odaklan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Picture 6" descr="book32.tiff"/>
          <p:cNvPicPr/>
          <p:nvPr/>
        </p:nvPicPr>
        <p:blipFill>
          <a:blip r:embed="rId1"/>
          <a:stretch/>
        </p:blipFill>
        <p:spPr>
          <a:xfrm>
            <a:off x="763560" y="1897200"/>
            <a:ext cx="78058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0A92-5437-4BA3-B9AB-E25F89D3CC2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ül 4 | Etkinlik 4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Forumu Değerlendirme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Çevrimiçi ankete katılın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www.hmh-degerlendirme.com/intel/foru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bağlantısına gidin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nketi tamamlamak için ekrandaki yönergeleri takip edi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4C8A-BD8B-4279-A6DB-968A974D238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Tebrikler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!!!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2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Öğretmen Programın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Liderlik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Forum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u’na katılımınızdan dolayı teşekkür ederiz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 kullanımı konusundaki harcadığınız emek, zaman ve yorumlarınız için sizi tebrik ediyoruz!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7FFE-31DC-4395-9505-362A5F2F5466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Yöneticiler için Ulusal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Eğitim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eknolojileri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Standar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tlarını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(NETS-A)</a:t>
            </a:r>
            <a:r>
              <a:rPr b="0" lang="tr-TR" sz="2600" spc="-1" strike="noStrike">
                <a:solidFill>
                  <a:srgbClr val="ffffff"/>
                </a:solidFill>
                <a:latin typeface="Verdana"/>
              </a:rPr>
              <a:t> biliyor musunuz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6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ve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649"/>
              </a:spcBef>
              <a:buClr>
                <a:srgbClr val="ffffff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Hayı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0E65-5D09-4B87-9A8A-DDBAB56EB9BD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2</a:t>
            </a:r>
            <a:br>
              <a:rPr sz="2600"/>
            </a:br>
            <a:r>
              <a:rPr b="1" lang="tr-TR" sz="2600" spc="-1" strike="noStrike">
                <a:solidFill>
                  <a:srgbClr val="a6cae1"/>
                </a:solidFill>
                <a:latin typeface="Verdana"/>
              </a:rPr>
              <a:t>Tanışmak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Adını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Okulunuzu ya da iliniz/ilçeniz ile ilgili bilgil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Görevi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DF75-EECB-4AE5-826D-3E59BDDA20A5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Başlarken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|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tkinlik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3</a:t>
            </a:r>
            <a:br>
              <a:rPr sz="2600"/>
            </a:b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Eylem Planı Şablonuna Bakış</a:t>
            </a:r>
            <a:br>
              <a:rPr sz="2600"/>
            </a:b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Kişise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Eyle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lan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i="1" lang="tr-TR" sz="1800" spc="-1" strike="noStrike">
                <a:solidFill>
                  <a:srgbClr val="ffffff"/>
                </a:solidFill>
                <a:latin typeface="Verdana"/>
              </a:rPr>
              <a:t>KİŞİSEL olarak ne yapabilirim?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11120" y="1582560"/>
          <a:ext cx="8205840" cy="4329360"/>
        </p:xfrm>
        <a:graphic>
          <a:graphicData uri="http://schemas.openxmlformats.org/drawingml/2006/table">
            <a:tbl>
              <a:tblPr/>
              <a:tblGrid>
                <a:gridCol w="2782800"/>
                <a:gridCol w="1905120"/>
                <a:gridCol w="1714680"/>
                <a:gridCol w="1803240"/>
              </a:tblGrid>
              <a:tr h="3056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tandar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t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 Alan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Kıs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Orta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Uzun Vad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Liderlik ve Vizy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nm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Öğret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I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rimlil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Mesleki Uygulamalar/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Üstlenilen Görevler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I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ste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Yönetim 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Arial"/>
                        </a:rPr>
                        <a:t>İşlem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Değerlendi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VI.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Sosy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Yasal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ve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 Et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ik</a:t>
                      </a: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tr-TR" sz="1400" spc="-1" strike="noStrike">
                          <a:solidFill>
                            <a:srgbClr val="0c2e86"/>
                          </a:solidFill>
                          <a:latin typeface="Arial"/>
                          <a:ea typeface="Times New Roman"/>
                        </a:rPr>
                        <a:t>Konu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0AB1-8D56-4E35-BAF5-E7612FA03937}" type="slidenum">
              <a:rPr b="1" lang="en-US" sz="800" spc="-1" strike="noStrike">
                <a:solidFill>
                  <a:srgbClr val="00009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</a:t>
            </a: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Gündemi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aşlarken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Forumun Tanıtımı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1 |</a:t>
            </a:r>
            <a:r>
              <a:rPr b="1" lang="tr-T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İyi Uygulama ve Kaynakları İncele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2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Web 2.0 Teknolojilerini Keşfet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3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Liderlik Davranış ve Standartlarını İncele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ül 4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Eylem Planını Geliştirme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apanış | </a:t>
            </a:r>
            <a:r>
              <a:rPr b="0" lang="tr-TR" sz="1800" spc="-1" strike="noStrike">
                <a:solidFill>
                  <a:srgbClr val="ffffff"/>
                </a:solidFill>
                <a:latin typeface="Verdana"/>
              </a:rPr>
              <a:t>Değerlendir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08:57:28Z</dcterms:created>
  <dc:creator>Intel® Teach Program</dc:creator>
  <dc:description/>
  <dc:language>en-US</dc:language>
  <cp:lastModifiedBy>Şenol KAHVECİ</cp:lastModifiedBy>
  <dcterms:modified xsi:type="dcterms:W3CDTF">2011-05-20T10:37:09Z</dcterms:modified>
  <cp:revision>143</cp:revision>
  <dc:subject/>
  <dc:title>Forum Presentation</dc:title>
</cp:coreProperties>
</file>